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13.wmf" ContentType="image/x-wmf"/>
  <Override PartName="/ppt/media/image8.wmf" ContentType="image/x-wmf"/>
  <Override PartName="/ppt/media/image7.gif" ContentType="image/gif"/>
  <Override PartName="/ppt/media/image20.wmf" ContentType="image/x-wmf"/>
  <Override PartName="/ppt/media/image11.wmf" ContentType="image/x-wmf"/>
  <Override PartName="/ppt/media/image6.wmf" ContentType="image/x-wmf"/>
  <Override PartName="/ppt/media/image1.wmf" ContentType="image/x-wmf"/>
  <Override PartName="/ppt/media/image9.jpeg" ContentType="image/jpeg"/>
  <Override PartName="/ppt/media/image19.wmf" ContentType="image/x-wmf"/>
  <Override PartName="/ppt/media/image18.jpeg" ContentType="image/jpeg"/>
  <Override PartName="/ppt/media/image17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E6500-AC90-4A61-B6F3-3D28A02FE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EB623-06A1-4676-AA97-CB5DA50B1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B45F5-3DD0-4375-8FF0-B3E78F7D8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5CD59-8DD9-4116-A920-83886AD14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2809A-1CB3-43D9-A795-97F2A0AEE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07D8A-3317-4B07-B566-B8AAFA1D7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AE186-FE46-46D9-B819-C2DC44C39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E86EC-FC58-4415-B44B-F6D7BE05A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1062D-6682-4C5D-A521-F4DA61C24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CB8B6-678B-48B6-A952-C280AB532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FD50E-4355-4AAF-BEAE-B53655E1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2FCF5-8322-442D-97E5-B6C1E012A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71A27-23BE-4FA2-8D5B-694A6502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C0384-A463-48C0-ACFE-7F32BC193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91D92-0736-49C5-BC7D-D2E25D741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738F4-3E40-44DB-BF5A-D3E605461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F2D78-8F4D-485F-BF81-0A52FC9B4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FCB50-EB3C-4E01-B5F0-74C5019FA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9F07D-9267-4B57-AB41-237B36B6A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5DECE-104D-4A33-B6B9-B5E15E84C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C07DC-4914-4BDC-ADAC-8FB7B5446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2E8E6-473B-4E3F-BF10-72EA1C8B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8E4A9-98F0-4796-9E8F-EDED7E98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A13E6-ED8E-4CDD-8C37-15CF7B6D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718AC-D16A-4319-89D7-8D5C7E13993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FEBAB-AADC-4BC1-8465-4B924192A41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hapter 3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Lesson 3: Caring for Your Skin, Teeth, and Hai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Brushing and Flossing Your Teeth – Figure 3.7 p. 71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to brush (ABC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to Use Dental Floss (ABCDEF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00400" y="3809880"/>
            <a:ext cx="1817640" cy="16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Healthy Skin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r skin is the largest organ of your bo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performs several key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733920" y="3657600"/>
            <a:ext cx="12715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Figure 3.8 Your Skin’s Functions - p. 72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erproofing – your skin serves as a protective covering against wa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sation – your skin is a sense organ, containing nerve endings that give you information about temperature and tou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mperature Control – Your skin plays a key role in regulating body temperature. Blood vessels in your skin help retain or release heat. Perspiration cools your bod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ontinued…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tamin D Formation – Your skin uses the sun’s ultraviolet light to produce small amounts of vitamin D, which helps to build bones and tee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ection – Your skin is your first line of defense against germs and inju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114800" y="4648320"/>
            <a:ext cx="1706400" cy="18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The Inside Story – p. 73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kin = two main lay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Epidermis – the outermost layer of sk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New cells made in the epidermis continuously replace old ones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cc00"/>
                </a:solidFill>
                <a:latin typeface="Arial"/>
              </a:rPr>
              <a:t>Cells in the epidermis make melanin (the substance that gives your skin its color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3520" y="3809880"/>
            <a:ext cx="1346040" cy="13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9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layer of skin…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neath the epidermis is th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rm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Dermis – the skin’s inner layer that contains blood vessels, nerve endings, and hair follicl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ontains two kinds of gland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weat Gland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il Gland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934320" y="3962520"/>
            <a:ext cx="93492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ontinued…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eat glands let perspiration escape through por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Pores – tiny openings in the sk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il glands keep the skin sof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gure 3.9 Parts of the Skin, p. 7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09480" y="45720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276720" y="4495680"/>
            <a:ext cx="1942920" cy="19843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5867280" y="4419720"/>
            <a:ext cx="2505240" cy="21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aring for Your Skin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ep clea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ke care of yoursel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uard against the su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10 am – 3 pm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095880" y="106668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Acn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condition occurs when active oil glands cause pores to become clogg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mples, whiteheads, or blackheads may resul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ne appears on the face, but may also affect the neck, back, and should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410080" y="304920"/>
            <a:ext cx="2414880" cy="17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Fighting Acn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tly wash the affected area at least twice daily with mild soap and warm wa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void touching, picking at, or rubbing the area and don’t apply heavy make up or crea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28600" y="4191120"/>
            <a:ext cx="14018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BELL ACTIVITY – 10/6/10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What do you do every day to keep your teeth healthy? Your skin? Your hai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Healthy Hair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Hair color comes from melan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ther your hair is straight, wavy, or curly depends on the shape of the hair shaft or part of the hair that you can se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visible portion is made of dead cel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hair cells grow beneath the skin surfa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934320" y="609480"/>
            <a:ext cx="16984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aring for Your Hair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ily brus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andruff – a flaking of the outer layer of dead skin cells on the scalp. Usually caused by dry skin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Head lice – parasitic insects that live in the hair and cause itching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on’t share combs, brushes, or hats with other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6400800" y="990720"/>
            <a:ext cx="1995480" cy="18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Review/Closing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e plaque and tart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be five of the functions of the sk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re the epidermis and dermi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Healthy Teeth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gure 3.5 – p. 6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derstanding what’s inside your teeth will help you take care of them more effectivel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ow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m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nt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l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 rot="604200">
            <a:off x="5791320" y="3657600"/>
            <a:ext cx="116676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Did you know?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oth enamel is the hardest substance in the human bod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o hard a dentist’s drill must turn at a rate more than 8,000 times per second in order to drill into a too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 rot="19932000">
            <a:off x="456840" y="3809520"/>
            <a:ext cx="1247760" cy="19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aring for Your Teeth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eping them healthy and cl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you neglect (ignore) your teeth, you allow the process of tooth decay to beg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038480" y="3962520"/>
            <a:ext cx="168300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Tooth Decay Process Figure 3.6 – p. 70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733920" y="198108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Bacteria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combined with food = </a:t>
            </a: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plaque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(thin sticky fil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If </a:t>
            </a: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plaque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is not cleaned away, it becomes </a:t>
            </a: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tartar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(hard material that threatens gum health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Tartar must be removed by a dentist or dental hygien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80880" y="2971800"/>
            <a:ext cx="3429000" cy="20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ontinued…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Plaque combines with sugar from foods to form an aci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The acid eats a cavity or hole, in the tooth’s ename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971800" y="3962520"/>
            <a:ext cx="297180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ontinued…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The decay spreads, invading the tooth’s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"/>
              </a:rPr>
              <a:t>dentin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The decay then spreads to the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"/>
              </a:rPr>
              <a:t> pulp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If the cavity exposes a nerve, you are likely to have a toothach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553080" y="4114800"/>
            <a:ext cx="1981440" cy="17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To fight tooth decay and keep your teeth healthy…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ush teeth regularly – at least twice a 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oose a toothpaste that contains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flouride (a substance that helps teeth resist deca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dental flo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t down on sug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t a balanced di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ve regular dental check 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172200" y="4114800"/>
            <a:ext cx="108576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11:56:44Z</dcterms:created>
  <dc:creator>GSCS</dc:creator>
  <dc:description/>
  <dc:language>en-US</dc:language>
  <cp:lastModifiedBy>GSCS</cp:lastModifiedBy>
  <dcterms:modified xsi:type="dcterms:W3CDTF">2010-10-04T17:37:47Z</dcterms:modified>
  <cp:revision>3</cp:revision>
  <dc:subject/>
  <dc:title>Chapter 3</dc:title>
</cp:coreProperties>
</file>